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360" y="-7391880"/>
            <a:ext cx="360" cy="345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-351000"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7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680" y="4680"/>
            <a:ext cx="32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084-F418-4999-B454-D4388754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C15-F1F0-4D2B-B9E0-BEC5766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DCB-6B0C-47A1-A59A-91C4D753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322-F3DF-4D5C-A911-C72CECD2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2C6-5550-40D1-8A66-3EDC8D5A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2D4-7481-4B13-A4DC-0A9D691F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8FD-CF32-4A3E-BF60-B4450CC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8D1-4E3C-482C-B1B5-0BCC5EDF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500-A9A3-4B80-B54C-DFC0B091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733-E10A-4060-94EE-3E2DFE7A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274-3ADC-40ED-8D51-91325B86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1AB-FB65-4CC1-B086-7BC4292A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E1AE-D641-4A79-8EBB-404090DC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C35B-9AA5-4F67-A260-7D903905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28F-016A-4D8B-ADA1-6B341ECA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7799-9ADC-4230-92C8-83DECB1F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454D-F422-4569-9265-D1B818D3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2E5E-7DD6-4998-9EC6-C22272F5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5517-60AC-4945-9AD7-6DD768B8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0CA2-FE82-49C8-A37C-D47A8207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755A-D2F9-479A-AE44-15755A5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B076-D336-41FC-B7DA-AA962AB3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41B6-0204-44AC-9DB5-3289FD82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5C55-7FE0-4EE9-B6DE-57520673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04800"/>
            <a:ext cx="8599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6240"/>
            <a:ext cx="8409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1720" indent="-42408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5900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7720" indent="-42696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DE90E5-12F5-4ECA-8246-80B889AA7B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800"/>
            <a:ext cx="87663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0" y="2048040"/>
            <a:ext cx="612720" cy="551160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600"/>
              <a:gd name="textAreaBottom" fmla="*/ 5511240 h 5511600"/>
            </a:gdLst>
            <a:ahLst/>
            <a:rect l="textAreaLeft" t="textAreaTop" r="textAreaRight" b="textAreaBottom"/>
            <a:pathLst>
              <a:path w="21600" h="194197">
                <a:moveTo>
                  <a:pt x="55" y="0"/>
                </a:moveTo>
                <a:arcTo wR="55" hR="55" stAng="16200000" swAng="-5400000"/>
                <a:lnTo>
                  <a:pt x="0" y="194142"/>
                </a:lnTo>
                <a:arcTo wR="55" hR="55" stAng="10800000" swAng="-5400000"/>
                <a:lnTo>
                  <a:pt x="21545" y="194197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1905120"/>
            <a:ext cx="10080720" cy="196560"/>
          </a:xfrm>
          <a:prstGeom prst="roundRect">
            <a:avLst>
              <a:gd name="adj" fmla="val 80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33624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3443040" y="6887880"/>
            <a:ext cx="318132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772776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6F7A6D-9437-4515-8488-9AA232CB7A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360" y="392040"/>
            <a:ext cx="907272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Задача №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</a:t>
            </a: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 (устно)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По первым буквам нарисованных предметов прочти имя геро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181400" y="3959280"/>
            <a:ext cx="211932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74760" y="3419640"/>
            <a:ext cx="1425600" cy="143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347840" y="4635360"/>
            <a:ext cx="1352520" cy="13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2519280" y="3600360"/>
            <a:ext cx="1800360" cy="1209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5940360" y="301464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7053120" y="4140360"/>
            <a:ext cx="1408320" cy="1260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>
            <a:off x="8280360" y="3240000"/>
            <a:ext cx="1081080" cy="10810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Задача №</a:t>
            </a:r>
            <a:r>
              <a:rPr b="0" lang="ru-RU" sz="4400" spc="-1" strike="noStrike">
                <a:solidFill>
                  <a:srgbClr val="ff9966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360" y="1901880"/>
            <a:ext cx="933912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А)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устно) По первым буквам написанных слов прочтите новое слово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КОТ, РЫБА, ОКУНЬ, ЛЕС, ИГЛА, КОЗ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Б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в тетради)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Таким же способом закодируйте своё имя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720360"/>
            <a:ext cx="9072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Задача №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3</a:t>
            </a: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920000" cy="55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03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Раскодировать сообщени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(11,1), (12,1), (5,2), (3,1), (6,3), (10,1), (12,1), (2,2), (1,3), (2,3), (5,1), (4,2), (1,3), (4,2), (6,1), (12,1), (3,2), (12,1), (10,3), (4,1), (6,2), (5,1), (2,2), (3,1), (1,3), (9,2), (10,3), (6,3), (11,3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Уч. стр. 30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539640" y="539640"/>
            <a:ext cx="900108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26960" indent="-322200" algn="ctr">
              <a:lnSpc>
                <a:spcPct val="93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Пр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де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оисходит обработка информации связанная с изменением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формы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едставления информации, а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не содержания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1"/>
          <p:cNvSpPr txBox="1"/>
          <p:nvPr/>
        </p:nvSpPr>
        <p:spPr>
          <a:xfrm>
            <a:off x="595440" y="922320"/>
            <a:ext cx="9090000" cy="50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 формы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едставления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форм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1618920"/>
            <a:ext cx="907236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Систематизировать информацию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7200"/>
            </a:b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что это знач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vidia</cp:lastModifiedBy>
  <dcterms:modified xsi:type="dcterms:W3CDTF">2011-11-07T13:06:58Z</dcterms:modified>
  <cp:revision>25</cp:revision>
  <dc:subject/>
  <dc:title>Слайд 1</dc:title>
</cp:coreProperties>
</file>